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9440" y="741240"/>
            <a:ext cx="65786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6726-E6F0-4C27-9A0D-D86D6542D6D0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9440" y="741240"/>
            <a:ext cx="6578640" cy="3702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arcador de número de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F76E-9FEA-4B6A-89B0-9F1E53DD88E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9440" y="741240"/>
            <a:ext cx="6578640" cy="3702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ay dos consideraciones esenciales a tener en cuenta cuando hablamos de migración: la primera es que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enemos que situar en el centro de nuestras preocupaciones a la persona migrante.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trata de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prender las causas que confluyen en su decisión de irse del país; de verificar si existen los mecanismos que lo informen y prevengan de los riesgos de la migración irregular y de sus derechos y obligaciones en otro país, entre otros aspectos de importa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segunda consideración se sustenta en determinar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qué está haciendo el Estado para atender este fenómeno social y cuál es su actuación para promover los derechos, las libertades y las obligaciones de las personas migrante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 No debemos olvidar que cada medida que implemente el Estado tendrá un impacto significativo en la vida de los migrantes, ya que esta puede beneficiarla o afectarla de modo irremed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Defensoría del Pueblo, en el marco de su mandato constitucional, ha venido atendiendo distintos casos y problemas de ciudadanos peruanos y extranjeros. A manera de ejemplo, en el año 1999 presentamos un estudio recomendando revisar y actualizar los costos reales de los servicios de emisión y renovación de pasaportes, así como la eliminación de sobrecost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Marcador de número de diapositiva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9A46-3CB4-4E54-B275-867E1B3FAC01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F9D-FB18-4974-AF24-3E67B8AB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04E-7D6F-4D29-BBA1-7532DC8C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FBD-1456-439B-85E5-560BE15E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67E-A1EB-40B1-A524-DA730A6E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6CB-77D7-4E96-BC92-5554F561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394-2C7D-45D1-8863-C20504DD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910-7AC7-4C3B-B709-A4E18C69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A32-97A1-493F-9C9D-DDCBE4E2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E09-3615-4E18-A279-D53F5158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D00-5B62-492B-B39D-67077665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A3C-0AE5-471A-A29A-3BD5BE78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090-9044-4FCB-9F2B-E9744B41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B4E0-B20E-4889-97BC-328796DDF384}" type="datetime">
              <a:rPr b="0" lang="es-PE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632B-D001-4CF1-ACC2-94C044EA07A6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fensoria.gob.p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Conector recto"/>
          <p:cNvSpPr/>
          <p:nvPr/>
        </p:nvSpPr>
        <p:spPr>
          <a:xfrm flipH="1">
            <a:off x="2498760" y="571680"/>
            <a:ext cx="1440" cy="414468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 Marcador de contenido"/>
          <p:cNvSpPr/>
          <p:nvPr/>
        </p:nvSpPr>
        <p:spPr>
          <a:xfrm>
            <a:off x="2714760" y="571680"/>
            <a:ext cx="61434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minario Iberoameri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tección de derechos de venezolanos y venezolanas. Por una acogida humanitaria en América La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portunidades y desafíos para el tratamiento de las personas venezolanas en movilidad hu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Sonia Cavalié Ap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Adjuntía para los Derechos Humanos y las Personas con Discapacid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Defensor del Pueblo de Per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o Paulo, 24 de octubre d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6 Imagen" descr="Logo DP copia copia copia.jpg"/>
          <p:cNvPicPr/>
          <p:nvPr/>
        </p:nvPicPr>
        <p:blipFill>
          <a:blip r:embed="rId1"/>
          <a:stretch/>
        </p:blipFill>
        <p:spPr>
          <a:xfrm>
            <a:off x="571680" y="1830240"/>
            <a:ext cx="135720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484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Calibri"/>
              </a:rPr>
              <a:t>Dificultades advertid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Marcador de número de diapositiva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087-220E-46A3-AF86-7278F57418B3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Marcador de número de diapositiva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A3F6-EB3E-4641-B802-5DFD4CC7F56A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 Marcador de contenido"/>
          <p:cNvSpPr/>
          <p:nvPr/>
        </p:nvSpPr>
        <p:spPr>
          <a:xfrm>
            <a:off x="227160" y="1203480"/>
            <a:ext cx="86788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Diagrama 5" descr=""/>
          <p:cNvPicPr/>
          <p:nvPr/>
        </p:nvPicPr>
        <p:blipFill>
          <a:blip r:embed="rId1"/>
          <a:stretch/>
        </p:blipFill>
        <p:spPr>
          <a:xfrm>
            <a:off x="109440" y="2858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Calibri"/>
              </a:rPr>
              <a:t>Tareas pendi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Marcador de número de diapositiva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0F49-D32E-4AA8-B865-E048DA9BE1DB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alibri"/>
              </a:rPr>
              <a:t>Temas a abordar desde las INDH reg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006560"/>
            <a:ext cx="82296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Velar por la protección de población de especial protección (NNA, AM, LGTBI, Pueblos indígenas, etc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Recomendar que nuestros gobiernos adopten medidas que permitan el tránsito de VEN con los sellos respectivos en sus documentos de viaje y/o TA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Impulsar que en nuestros países se implemente procesos de regularización migratoria accesibles a los contextos de la población venezola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Apoyarnos en la ubicación de familiares de personas venezolanas que requieran reubicación a un tercer paí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Elaborar material conjunto de difusión sobre las rutas de ingreso seguro a cada país, los trámites a realizar para su regularización, incluido costos. Así como, información sobre derechos y deberes, tanto para la población en movilidad y loc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Implementar una red de atención de casos en fronter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Campañas de lucha contra la discriminación y xenofob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Marcador de número de diapositiva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5F8-AB30-4B3E-A471-8C8C8E5E718D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40240" y="44280"/>
            <a:ext cx="263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Calibri"/>
              </a:rPr>
              <a:t>Gracias.</a:t>
            </a:r>
            <a:br>
              <a:rPr sz="3600"/>
            </a:br>
            <a:r>
              <a:rPr b="0" lang="es-PE" sz="36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www.defensoria.gob.p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Marcador de número de diapositiva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6718-8FBB-41AA-9CDE-6429C051959D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Calibri"/>
              </a:rPr>
              <a:t>La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fensoría del Pueblo y el fenómeno migrato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5600" y="950400"/>
            <a:ext cx="54738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sideraciones esenci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sona migrante como cent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ol del Est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andato constitucional y legal de la DP, habilita la supervisión del cumplimiento de los estándares mínimos de protección internacional de los derechos de los y las personas en movilidad internac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ción de ca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aboración de infor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ticipación en grupos de trabajo estat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efensoria-pueblo_02"/>
          <p:cNvPicPr/>
          <p:nvPr/>
        </p:nvPicPr>
        <p:blipFill>
          <a:blip r:embed="rId1"/>
          <a:stretch/>
        </p:blipFill>
        <p:spPr>
          <a:xfrm>
            <a:off x="6156360" y="950760"/>
            <a:ext cx="2749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Calibri"/>
              </a:rPr>
              <a:t>Característica de la población venezolana en Per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Marcador de número de diapositiva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504B-2107-40B3-8C9C-295D7CEC5008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7560"/>
          </a:xfrm>
          <a:prstGeom prst="rect">
            <a:avLst/>
          </a:prstGeom>
          <a:solidFill>
            <a:srgbClr val="00823b"/>
          </a:solidFill>
          <a:ln w="0">
            <a:noFill/>
          </a:ln>
        </p:spPr>
        <p:txBody>
          <a:bodyPr lIns="68400" rIns="68400" tIns="68400" bIns="68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Situación mig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adroTexto 15"/>
          <p:cNvSpPr/>
          <p:nvPr/>
        </p:nvSpPr>
        <p:spPr>
          <a:xfrm>
            <a:off x="293760" y="1042920"/>
            <a:ext cx="355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Calibri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000000"/>
                </a:solidFill>
                <a:latin typeface="Arial"/>
                <a:ea typeface="Calibri"/>
              </a:rPr>
              <a:t>397.8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Calibri"/>
              </a:rPr>
              <a:t>Venezolanos en Per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(al 31 de agosto de 2018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adroTexto 18"/>
          <p:cNvSpPr/>
          <p:nvPr/>
        </p:nvSpPr>
        <p:spPr>
          <a:xfrm>
            <a:off x="554040" y="314784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  <a:ea typeface="Calibri"/>
              </a:rPr>
              <a:t>81.282 han tramitado P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  <a:ea typeface="Calibri"/>
              </a:rPr>
              <a:t>98.569 tienen cita para iniciar trám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22"/>
          <p:cNvSpPr/>
          <p:nvPr/>
        </p:nvSpPr>
        <p:spPr>
          <a:xfrm>
            <a:off x="468360" y="2647800"/>
            <a:ext cx="3598920" cy="398880"/>
          </a:xfrm>
          <a:prstGeom prst="rect">
            <a:avLst/>
          </a:prstGeom>
          <a:gradFill rotWithShape="0">
            <a:gsLst>
              <a:gs pos="0">
                <a:srgbClr val="ffa0b5"/>
              </a:gs>
              <a:gs pos="100000">
                <a:srgbClr val="ffe5ea"/>
              </a:gs>
            </a:gsLst>
            <a:lin ang="16200000"/>
          </a:gradFill>
          <a:ln w="9360">
            <a:solidFill>
              <a:srgbClr val="b7386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89.825 portadores del P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n 2" descr=""/>
          <p:cNvPicPr/>
          <p:nvPr/>
        </p:nvPicPr>
        <p:blipFill>
          <a:blip r:embed="rId1"/>
          <a:stretch/>
        </p:blipFill>
        <p:spPr>
          <a:xfrm>
            <a:off x="4327560" y="1541520"/>
            <a:ext cx="2989080" cy="3736800"/>
          </a:xfrm>
          <a:prstGeom prst="rect">
            <a:avLst/>
          </a:prstGeom>
          <a:ln w="0">
            <a:noFill/>
          </a:ln>
        </p:spPr>
      </p:pic>
      <p:sp>
        <p:nvSpPr>
          <p:cNvPr id="67" name="CuadroTexto 25"/>
          <p:cNvSpPr/>
          <p:nvPr/>
        </p:nvSpPr>
        <p:spPr>
          <a:xfrm>
            <a:off x="431640" y="3794040"/>
            <a:ext cx="435636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alibri"/>
              </a:rPr>
              <a:t>133.078 solicitudes de refugio VEN 2015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Texto 26"/>
          <p:cNvSpPr/>
          <p:nvPr/>
        </p:nvSpPr>
        <p:spPr>
          <a:xfrm>
            <a:off x="544680" y="43768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73.2% también ha solicitado el P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adroTexto 27"/>
          <p:cNvSpPr/>
          <p:nvPr/>
        </p:nvSpPr>
        <p:spPr>
          <a:xfrm>
            <a:off x="7118280" y="2139840"/>
            <a:ext cx="1873440" cy="1797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IRREG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Exceso de perman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No registran in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Con sanción migrato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ángulo 1"/>
          <p:cNvSpPr/>
          <p:nvPr/>
        </p:nvSpPr>
        <p:spPr>
          <a:xfrm>
            <a:off x="1675440" y="4146480"/>
            <a:ext cx="138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(al 31 de julio de 2018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lobo: flecha hacia arriba 1"/>
          <p:cNvSpPr/>
          <p:nvPr/>
        </p:nvSpPr>
        <p:spPr>
          <a:xfrm>
            <a:off x="7278840" y="4111560"/>
            <a:ext cx="1547640" cy="885960"/>
          </a:xfrm>
          <a:prstGeom prst="upArrowCallout">
            <a:avLst>
              <a:gd name="adj1" fmla="val 24992"/>
              <a:gd name="adj2" fmla="val 24990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Principio de No d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2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484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Calibri"/>
              </a:rPr>
              <a:t>Respuesta del Estado peru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número de diapositiva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A4E1-E3CA-4E2A-902F-4ED46EB3851C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arcador de número de diapositiva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486-1BC0-445B-9B00-A6F0BDC48990}" type="slidenum">
              <a:rPr b="0" lang="es-P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Diagrama 2" descr=""/>
          <p:cNvPicPr/>
          <p:nvPr/>
        </p:nvPicPr>
        <p:blipFill>
          <a:blip r:embed="rId1"/>
          <a:stretch/>
        </p:blipFill>
        <p:spPr>
          <a:xfrm>
            <a:off x="396720" y="341280"/>
            <a:ext cx="8498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4:25:41Z</dcterms:created>
  <dc:creator>Fernando Hurtado Regalado</dc:creator>
  <dc:description/>
  <dc:language>en-US</dc:language>
  <cp:lastModifiedBy>Usuario</cp:lastModifiedBy>
  <cp:lastPrinted>2013-11-28T16:22:44Z</cp:lastPrinted>
  <dcterms:modified xsi:type="dcterms:W3CDTF">2018-10-21T16:49:06Z</dcterms:modified>
  <cp:revision>1053</cp:revision>
  <dc:subject/>
  <dc:title>Diapositiva 1</dc:title>
</cp:coreProperties>
</file>